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CB6D-317A-48DC-B1F0-5AD71C80B265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105D-6653-4735-98AE-420A6EB3D12B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03C6-3AC1-47F0-95B8-7349CCAB1AEF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71320" y="1320480"/>
            <a:ext cx="11861640" cy="14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1320" y="6674760"/>
            <a:ext cx="118616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49560" y="501624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7132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49560" y="6674760"/>
            <a:ext cx="57884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820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592480" y="501624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7132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5820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592480" y="6674760"/>
            <a:ext cx="3819240" cy="15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49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0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5000"/>
          </a:bodyPr>
          <a:p>
            <a:pPr marL="1998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4950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82836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16208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49544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8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274320" indent="-2743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274320" indent="-2743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5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9144000" y="266760"/>
            <a:ext cx="3441600" cy="81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0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0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8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6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4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5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SIP Federation 101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839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ederation of Earth Science Information Partn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January 4, 2012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39" name="Picture 3" descr=""/>
          <p:cNvPicPr/>
          <p:nvPr/>
        </p:nvPicPr>
        <p:blipFill>
          <a:blip r:embed="rId1"/>
          <a:stretch/>
        </p:blipFill>
        <p:spPr>
          <a:xfrm>
            <a:off x="165240" y="7873920"/>
            <a:ext cx="548640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et ESIP’e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Ongoing activitie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luster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art a new one!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Working group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mmitte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Twice-yearly meeting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ttend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ext: July 16-20, 2012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3" marL="15199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Madison, Wisconsin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sent a talk or poster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hair a sess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Partnership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Joi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Invite your colleagu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Host a summer meeting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Consider ‘running’ for office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Key Contac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SIP Elected Officials (annual)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esident – Chris Lenhardt (2011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ice-President – Karl Benedict (2011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SIP type representativ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mittee chai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Foundation for Earth Scienc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xecutive Director – Carol Meyer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formation and Virtual Community Director – Erin Robins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SIP Onlin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ome pa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ff"/>
                </a:solidFill>
                <a:latin typeface="Helvetica Neue"/>
              </a:rPr>
              <a:t>http://esipfed.or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iki (primary collaborative space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ff"/>
                </a:solidFill>
                <a:latin typeface="Helvetica Neue"/>
              </a:rPr>
              <a:t>http://wiki.esipfed.or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acebook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http://tinyurl.com/esip-facebook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witter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#esipf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lobal Change Master Directo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ff"/>
                </a:solidFill>
                <a:latin typeface="Helvetica Neue"/>
              </a:rPr>
              <a:t>ESIP data port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0008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ff"/>
                </a:solidFill>
                <a:latin typeface="Helvetica Neue"/>
              </a:rPr>
              <a:t>ESIP services port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45760" y="50036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Vignett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231840" indent="-231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ir Quality (AQ) Cluster starts, eventually becomes a Working Group and becomes the GEO AQ Community of Practic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574200" indent="-231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Q cluster submits a mini-grant proposal to fund development of a twitter feed aggregator that monitored air quality event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31840" indent="-231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KML translator developed by ESIP member to convert geospatial data into KML for rendering into Google Earth. Translator code gets picked up and reused by other members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31840" indent="-231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ata Discovery Cluster forms to look at data search, retrieval and access services.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574200" indent="-231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Goal is to review existing services to assess commonalities, differences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574200" indent="-231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veloped a governance model that allowed for community review, comment of existing services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574200" indent="-231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ulting in community-based conventions related to data discove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ao of ESIP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</a:rPr>
              <a:t>We are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..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➜ </a:t>
            </a:r>
            <a:r>
              <a:rPr b="1" lang="en-US" sz="3200" spc="-1" strike="noStrike">
                <a:solidFill>
                  <a:srgbClr val="606060"/>
                </a:solidFill>
                <a:latin typeface="Helvetica Neue"/>
              </a:rPr>
              <a:t>Community-drive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embers are the author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olunta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o requirement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o remunerat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For the good of the order</a:t>
            </a:r>
            <a:r>
              <a:rPr b="0" lang="ja-JP" sz="2400" spc="-1" strike="noStrike">
                <a:solidFill>
                  <a:srgbClr val="60606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Geographicall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picall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Functionall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757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pe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legial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9764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eutral forum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</a:rPr>
              <a:t>We value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..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articip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hare your expertis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everage others’ expertis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courage free flow of idea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ＭＳ Ｐゴシック"/>
              </a:rPr>
              <a:t>Exposure → opportuniti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llabor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20680" indent="-2584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mmunities of practice</a:t>
            </a:r>
            <a:r>
              <a:rPr b="0" lang="ja-JP" sz="2400" spc="-1" strike="noStrike">
                <a:solidFill>
                  <a:srgbClr val="60606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nov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o institutional barrier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ults for $5K!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</a:rPr>
              <a:t>Hybrid virtual and ‘real’ organizat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Vision Pillar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ESIP provides the Earth science informatics intellectual commons to drive innovation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ESIP is the trusted community authority that supports the integration of science and data into mainstream use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ESIP leads the development of the science data information profession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ESIP achieves sustainability through diversification, global partnerships and partner recognition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71320" y="2323800"/>
            <a:ext cx="11861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rmed in 1998 by NAS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tional Academy report recommended the creation of a feder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24 original </a:t>
            </a:r>
            <a:r>
              <a:rPr b="0" lang="ja-JP" sz="28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orking Prototypes-ESIPs</a:t>
            </a:r>
            <a:r>
              <a:rPr b="0" lang="ja-JP" sz="2800" spc="-1" strike="noStrike">
                <a:solidFill>
                  <a:srgbClr val="60606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4372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12 resear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4372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12 applicatio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ater expanded to include NASA DAAC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4" marL="3344400" indent="0">
              <a:spcBef>
                <a:spcPts val="6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stitutional Convention</a:t>
            </a:r>
            <a:r>
              <a:rPr b="0" lang="ja-JP" sz="3400" spc="-1" strike="noStrike">
                <a:solidFill>
                  <a:srgbClr val="606060"/>
                </a:solidFill>
                <a:latin typeface="Arial"/>
              </a:rPr>
              <a:t>”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(1999-2000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stitution and Bylaw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4" marL="3344400" indent="0">
              <a:spcBef>
                <a:spcPts val="6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ndation for Earth Science (2001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onprofit 501(c)(3) corpor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 Federation</a:t>
            </a:r>
            <a:r>
              <a:rPr b="0" lang="ja-JP" sz="2800" spc="-1" strike="noStrike">
                <a:solidFill>
                  <a:srgbClr val="60606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 secretaria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artner Typ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e I: data centers (21)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SA DAAC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OAA (NGDC, NODC, NCDC)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e II: researchers and tool developers (51)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ademi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Government lab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349680" y="236232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e III: application developers (51)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mmercial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onprofit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ducational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e IV: strategic partners (2)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S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OA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overnanc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Assembly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1 partner, 1 vot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nnual meeting in Ja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eadership elected from Assembly representativ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Committee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hair elected by Assembly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hair serves on</a:t>
            </a:r>
            <a:br>
              <a:rPr sz="3200"/>
            </a:b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xecutive Committe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orking group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reated by</a:t>
            </a:r>
            <a:br>
              <a:rPr sz="3200"/>
            </a:b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ssembly or Committe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ask-oriented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Cluster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elf-forming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For any reas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nds when the last person hangs up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58360" y="2133720"/>
            <a:ext cx="593100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tanding Committe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728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ducat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728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Information Technology and Interoperability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728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roducts and Servic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dministrative Committe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728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nstitution and Bylaw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728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Finance and Appropriation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728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artnership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578280" y="213372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Working group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ir Qual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limate Educ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isione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luster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ove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nerg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cis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ederated Search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fo Qual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eservation &amp; Stewardship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mantic Web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isualiz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et ESIP’e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901800" indent="-457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See ESIP Federation community engagement opportunities in your packet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lvl="1" marL="901800" indent="-457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Sign up during poster session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lvl="1" marL="901800" indent="-457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Talk to committee, working group, cluster leads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lvl="1" marL="901800" indent="-457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Open invitation to get involved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lvl="1" marL="90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7:23:26Z</dcterms:created>
  <dc:creator/>
  <dc:description/>
  <cp:keywords/>
  <dc:language>en-US</dc:language>
  <cp:lastModifiedBy>Carol Meyer</cp:lastModifiedBy>
  <dcterms:modified xsi:type="dcterms:W3CDTF">2012-01-12T16:48:49Z</dcterms:modified>
  <cp:revision>32</cp:revision>
  <dc:subject/>
  <dc:title>ESIP Federation 101</dc:title>
</cp:coreProperties>
</file>